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B699E-3732-4280-B39D-C8CAB0D3EB9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B5ECE-A6C8-4988-9D22-169A99A14F1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56A64-D8B3-405D-9170-8E4C36D8974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33B29-6E8C-43E3-8B32-21D6BEE7DDE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AC6AD-6E30-47B4-AC1C-4BEE736CC00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2D49-0B62-4417-883A-F3DAE8FA075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46715-E303-4A68-AE21-539EF390E12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6D3A4-00C2-44C2-AB0E-0ACF92C9D4F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CB9D1-545B-457F-A23D-53CC9B6B018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77BAD-DD69-439F-B3EF-80D7E6FDF89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E83BC-009F-46BA-8BC6-1DD23203D35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F1803-8FE5-4948-8AB8-EA5BDF8CCD0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F3861-0ADC-4FAC-8011-49964B38D5D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00F77A-A55A-47D6-A776-5A7FA8E1A8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A52BFD9D-AFC9-413F-A448-C84E4F3EDB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1E6934DF-E7F4-4336-A454-044FBAFCFA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D18519D3-6AC8-487C-9DD4-87C5F4885E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6CED8AB-28F3-4C9C-887B-FCCD4FD2FC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963830A9-8B20-43A7-9854-B69ADA6419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74D7CEE-4E8B-4938-ADE4-69D137D826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7942D64-14C0-49B2-9914-12E0C2ACA7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2FEDB050-AC7F-4B62-8400-3B29DC5E8C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54D3F3B-4EE1-4FE2-82B4-D8A14BA6AC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A4CCE0A-6276-4E8A-B680-19CBB7A30C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D857991-7804-4ED8-BF0D-9AD34F75AA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C72A2-E73A-499C-9D60-72488930709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2205000"/>
            <a:ext cx="66265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十二章</a:t>
            </a:r>
            <a:r>
              <a:rPr b="0" lang="en-US" sz="5400" spc="-1" strike="noStrike">
                <a:solidFill>
                  <a:srgbClr val="ffffff"/>
                </a:solidFill>
                <a:latin typeface="华文新魏"/>
              </a:rPr>
              <a:t>    </a:t>
            </a:r>
            <a:r>
              <a:rPr b="0" lang="zh-CN" sz="5400" spc="-1" strike="noStrike">
                <a:solidFill>
                  <a:srgbClr val="ffffff"/>
                </a:solidFill>
                <a:latin typeface="华文新魏"/>
              </a:rPr>
              <a:t>甲状腺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甲状腺功能亢进，拟行双侧甲状腺次全切除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术后可能出现哪些并发症？如何预防和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  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  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呼吸困难和窒息、喉返神经损伤、喉上神经损伤、甲状旁腺功能减退、甲状腺危象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完善术前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准备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护理</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困难和窒息：术后最危急的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锻炼和自我护理知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复诊</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 单纯性甲状腺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r>
              <a:rPr b="0" lang="en-US" sz="3200" spc="-1" strike="noStrike">
                <a:solidFill>
                  <a:srgbClr val="046ca6"/>
                </a:solidFill>
                <a:latin typeface="华文新魏"/>
              </a:rPr>
              <a:t>simple goiter</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由多种原因引起的非炎症性或非肿瘤性甲状腺肿大，一般不伴有甲状腺功能异常的临床表现</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7</a:t>
            </a:r>
            <a:r>
              <a:rPr b="0" lang="zh-CN" sz="2800" spc="-1" strike="noStrike">
                <a:solidFill>
                  <a:srgbClr val="046ca6"/>
                </a:solidFill>
                <a:latin typeface="华文新魏"/>
              </a:rPr>
              <a:t>岁，山区居民，颈前增粗</a:t>
            </a:r>
            <a:r>
              <a:rPr b="0" lang="en-US" sz="2800" spc="-1" strike="noStrike">
                <a:solidFill>
                  <a:srgbClr val="046ca6"/>
                </a:solidFill>
                <a:latin typeface="华文新魏"/>
              </a:rPr>
              <a:t>10</a:t>
            </a:r>
            <a:r>
              <a:rPr b="0" lang="zh-CN" sz="2800" spc="-1" strike="noStrike">
                <a:solidFill>
                  <a:srgbClr val="046ca6"/>
                </a:solidFill>
                <a:latin typeface="华文新魏"/>
              </a:rPr>
              <a:t>年，呼吸、吞咽困难</a:t>
            </a:r>
            <a:r>
              <a:rPr b="0" lang="en-US" sz="2800" spc="-1" strike="noStrike">
                <a:solidFill>
                  <a:srgbClr val="046ca6"/>
                </a:solidFill>
                <a:latin typeface="华文新魏"/>
              </a:rPr>
              <a:t>8</a:t>
            </a:r>
            <a:r>
              <a:rPr b="0" lang="zh-CN" sz="2800" spc="-1" strike="noStrike">
                <a:solidFill>
                  <a:srgbClr val="046ca6"/>
                </a:solidFill>
                <a:latin typeface="华文新魏"/>
              </a:rPr>
              <a:t>个月，于</a:t>
            </a:r>
            <a:r>
              <a:rPr b="0" lang="en-US" sz="2800" spc="-1" strike="noStrike">
                <a:solidFill>
                  <a:srgbClr val="046ca6"/>
                </a:solidFill>
                <a:latin typeface="华文新魏"/>
              </a:rPr>
              <a:t>10</a:t>
            </a:r>
            <a:r>
              <a:rPr b="0" lang="zh-CN" sz="2800" spc="-1" strike="noStrike">
                <a:solidFill>
                  <a:srgbClr val="046ca6"/>
                </a:solidFill>
                <a:latin typeface="华文新魏"/>
              </a:rPr>
              <a:t>年前发现颈部增粗，随后逐渐增大，未诊治，几月前剧烈活动后感觉气促，吞咽时有哽咽感，近</a:t>
            </a:r>
            <a:r>
              <a:rPr b="0" lang="en-US" sz="2800" spc="-1" strike="noStrike">
                <a:solidFill>
                  <a:srgbClr val="046ca6"/>
                </a:solidFill>
                <a:latin typeface="华文新魏"/>
              </a:rPr>
              <a:t>1</a:t>
            </a:r>
            <a:r>
              <a:rPr b="0" lang="zh-CN" sz="2800" spc="-1" strike="noStrike">
                <a:solidFill>
                  <a:srgbClr val="046ca6"/>
                </a:solidFill>
                <a:latin typeface="华文新魏"/>
              </a:rPr>
              <a:t>个月在休息时也有呼吸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检：双侧甲状腺弥漫性肿大，质地中等，无压痛，右侧可触及多个小结节。</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基础代谢率和甲状腺功能检查结果正常。结节细针穿刺细胞学检查提示为结节性甲状腺肿。颈部</a:t>
            </a:r>
            <a:r>
              <a:rPr b="0" lang="en-US" sz="2800" spc="-1" strike="noStrike">
                <a:solidFill>
                  <a:srgbClr val="046ca6"/>
                </a:solidFill>
                <a:latin typeface="华文新魏"/>
              </a:rPr>
              <a:t>X</a:t>
            </a:r>
            <a:r>
              <a:rPr b="0" lang="zh-CN" sz="2800" spc="-1" strike="noStrike">
                <a:solidFill>
                  <a:srgbClr val="046ca6"/>
                </a:solidFill>
                <a:latin typeface="华文新魏"/>
              </a:rPr>
              <a:t>线检查发现气管受压狭窄。</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问题：该患者护理评估内容有哪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甲状腺功能亢进的概念</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甲状腺功能亢进、单纯性甲状腺肿、甲状腺肿瘤发病的临床表现、相关因素、辅助检查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阐明甲状腺功能亢进、单纯性甲状腺肿、甲状腺肿瘤的治疗原则</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甲状腺功能亢进术后主要的并发症及其处理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甲状腺疾病患者并为其制订护理计划</a:t>
            </a: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全身症状，基础代谢率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不同程度的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和肿大结节对周围器官引起的压迫症状</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一般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a:t>
            </a:r>
            <a:r>
              <a:rPr b="0" lang="en-US" sz="2800" spc="-1" strike="noStrike">
                <a:solidFill>
                  <a:srgbClr val="046ca6"/>
                </a:solidFill>
                <a:latin typeface="华文新魏"/>
              </a:rPr>
              <a:t>T</a:t>
            </a:r>
            <a:r>
              <a:rPr b="0" lang="en-US" sz="2800" spc="-1" strike="noStrike" baseline="-25000">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检查可了解气管受压及移位情况</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生理时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制剂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 </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单纯性甲状腺肿，拟行手术治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围术期护理要点有哪些？如何预防本病？</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紊乱 与甲状腺肿大致颈部增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声音嘶哑、吞咽困难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知识缺乏：缺乏对疾病知识和饮食方法的了解，药物使用方法及康复知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本章第一节甲状腺功能亢进患者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5640" y="2276640"/>
            <a:ext cx="59007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甲状腺肿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腺瘤（</a:t>
            </a:r>
            <a:r>
              <a:rPr b="0" lang="en-US" sz="3200" spc="-1" strike="noStrike">
                <a:solidFill>
                  <a:srgbClr val="046ca6"/>
                </a:solidFill>
                <a:latin typeface="华文新魏"/>
              </a:rPr>
              <a:t>thyroid adenoma</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最常见的甲状腺良性肿瘤，</a:t>
            </a:r>
            <a:r>
              <a:rPr b="0" lang="en-US" sz="2800" spc="-1" strike="noStrike">
                <a:solidFill>
                  <a:srgbClr val="046ca6"/>
                </a:solidFill>
                <a:latin typeface="华文新魏"/>
              </a:rPr>
              <a:t>40</a:t>
            </a:r>
            <a:r>
              <a:rPr b="0" lang="zh-CN" sz="2800" spc="-1" strike="noStrike">
                <a:solidFill>
                  <a:srgbClr val="046ca6"/>
                </a:solidFill>
                <a:latin typeface="华文新魏"/>
              </a:rPr>
              <a:t>岁以下女性多见。按形态学可分为滤泡状和乳头状囊性腺瘤</a:t>
            </a:r>
            <a:r>
              <a:rPr b="0" lang="en-US" sz="2800" spc="-1" strike="noStrike">
                <a:solidFill>
                  <a:srgbClr val="046ca6"/>
                </a:solidFill>
                <a:latin typeface="华文新魏"/>
              </a:rPr>
              <a:t>2</a:t>
            </a:r>
            <a:r>
              <a:rPr b="0" lang="zh-CN" sz="2800" spc="-1" strike="noStrike">
                <a:solidFill>
                  <a:srgbClr val="046ca6"/>
                </a:solidFill>
                <a:latin typeface="华文新魏"/>
              </a:rPr>
              <a:t>种，腺瘤具有完整的包膜。临床上以滤泡状腺瘤常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 甲状腺功能亢进</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患者无任何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颈部肿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针穿刺细胞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早期行包括腺瘤的患侧甲状腺大部或部分（腺瘤小）切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以手术为主，并辅以应用放射性核素（</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甲状腺激素和放射外照射等治疗</a:t>
            </a:r>
            <a:endParaRPr b="0" lang="en-US" sz="28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 与担心甲状腺肿瘤为恶性和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和窒息、喉返神经损伤、喉上神经损伤、甲状旁腺功能减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措施参见本章第一节甲状腺功能亢进患者的护理</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6" name=""/>
          <p:cNvSpPr txBox="1"/>
          <p:nvPr/>
        </p:nvSpPr>
        <p:spPr>
          <a:xfrm>
            <a:off x="304920" y="1268280"/>
            <a:ext cx="8610480" cy="49802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典型表现有甲状腺素分泌过多综合征、甲状腺肿和眼征三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目前主要的处理方法是药物治疗、放射性碘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术前护理中以药物护理为重点；术后护理以并发症的观察和处理为重点，并发症主要有呼吸困难和窒息、喉返神经损伤、喉上神经损伤、甲状腺功能减退、甲状腺危象等</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  主要原因包括甲状腺素原料缺乏、甲状腺素需要量增高和甲状腺素合成和分泌障碍</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  以甲状腺不同程度的肿大为主要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  主要有碘剂治疗、甲状腺素制剂治疗和手术治疗</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  应注意用药期间的观察和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未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状腺腺瘤的结节多为单发，质软，表面光滑，边界清，无压痛，随吞咽上下活动。不同病理类型甲状腺癌的共同表现是颈部肿块，质地硬而固定，表面不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甲状腺肿瘤以手术治疗为主，甲状腺癌者还可辅以应用放射性核素、甲状腺激素和放射外照射等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  甲状腺癌患者若行颈淋巴结清扫术，术后应进行功能锻炼。甲状腺次全或全切者终身服用甲状腺素制剂</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简称甲亢，是由于各种原因导致循环中甲状腺素分泌过多而引起以全身代谢亢进为主要特征的疾病总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2</a:t>
            </a:r>
            <a:r>
              <a:rPr b="0" lang="zh-CN" sz="3600" spc="-1" strike="noStrike">
                <a:solidFill>
                  <a:srgbClr val="046ca6"/>
                </a:solidFill>
                <a:latin typeface="华文新魏"/>
              </a:rPr>
              <a:t>岁，近日来心慌不适、怕热，易饥饿和多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体检：甲状腺呈弥漫性肿大，双侧对称，质软，双手震颤，突眼，心率</a:t>
            </a:r>
            <a:r>
              <a:rPr b="0" lang="en-US" sz="3600" spc="-1" strike="noStrike">
                <a:solidFill>
                  <a:srgbClr val="046ca6"/>
                </a:solidFill>
                <a:latin typeface="华文新魏"/>
              </a:rPr>
              <a:t>120</a:t>
            </a:r>
            <a:r>
              <a:rPr b="0" lang="zh-CN" sz="3600" spc="-1" strike="noStrike">
                <a:solidFill>
                  <a:srgbClr val="046ca6"/>
                </a:solidFill>
                <a:latin typeface="华文新魏"/>
              </a:rPr>
              <a:t>次／分，基础代谢率</a:t>
            </a:r>
            <a:r>
              <a:rPr b="0" lang="en-US" sz="3600" spc="-1" strike="noStrike">
                <a:solidFill>
                  <a:srgbClr val="046ca6"/>
                </a:solidFill>
                <a:latin typeface="华文新魏"/>
              </a:rPr>
              <a:t>+ 45%</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实验室检查：血清</a:t>
            </a:r>
            <a:r>
              <a:rPr b="0" lang="en-US" sz="3600" spc="-1" strike="noStrike">
                <a:solidFill>
                  <a:srgbClr val="046ca6"/>
                </a:solidFill>
                <a:latin typeface="华文新魏"/>
              </a:rPr>
              <a:t>T</a:t>
            </a:r>
            <a:r>
              <a:rPr b="0" lang="en-US" sz="3600" spc="-1" strike="noStrike" baseline="-25000">
                <a:solidFill>
                  <a:srgbClr val="046ca6"/>
                </a:solidFill>
                <a:latin typeface="华文新魏"/>
              </a:rPr>
              <a:t>3</a:t>
            </a:r>
            <a:r>
              <a:rPr b="0" lang="en-US" sz="3600" spc="-1" strike="noStrike">
                <a:solidFill>
                  <a:srgbClr val="046ca6"/>
                </a:solidFill>
                <a:latin typeface="华文新魏"/>
              </a:rPr>
              <a:t> 10.73 nmol/L</a:t>
            </a:r>
            <a:r>
              <a:rPr b="0" lang="zh-CN" sz="3600" spc="-1" strike="noStrike">
                <a:solidFill>
                  <a:srgbClr val="046ca6"/>
                </a:solidFill>
                <a:latin typeface="华文新魏"/>
              </a:rPr>
              <a:t>，</a:t>
            </a:r>
            <a:r>
              <a:rPr b="0" lang="en-US" sz="3600" spc="-1" strike="noStrike">
                <a:solidFill>
                  <a:srgbClr val="046ca6"/>
                </a:solidFill>
                <a:latin typeface="华文新魏"/>
              </a:rPr>
              <a:t>T</a:t>
            </a:r>
            <a:r>
              <a:rPr b="0" lang="en-US" sz="3600" spc="-1" strike="noStrike" baseline="-25000">
                <a:solidFill>
                  <a:srgbClr val="046ca6"/>
                </a:solidFill>
                <a:latin typeface="华文新魏"/>
              </a:rPr>
              <a:t>4</a:t>
            </a:r>
            <a:r>
              <a:rPr b="0" lang="en-US" sz="3600" spc="-1" strike="noStrike">
                <a:solidFill>
                  <a:srgbClr val="046ca6"/>
                </a:solidFill>
                <a:latin typeface="华文新魏"/>
              </a:rPr>
              <a:t>  300.5 n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素分泌过多综合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征</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 </a:t>
            </a:r>
            <a:r>
              <a:rPr b="0" lang="en-US" sz="2800" spc="-1" strike="noStrike">
                <a:solidFill>
                  <a:srgbClr val="046ca6"/>
                </a:solidFill>
                <a:latin typeface="华文新魏"/>
              </a:rPr>
              <a:t>:</a:t>
            </a:r>
            <a:r>
              <a:rPr b="0" lang="zh-CN" sz="2800" spc="-1" strike="noStrike">
                <a:solidFill>
                  <a:srgbClr val="046ca6"/>
                </a:solidFill>
                <a:latin typeface="华文新魏"/>
              </a:rPr>
              <a:t>基础代谢率％</a:t>
            </a:r>
            <a:r>
              <a:rPr b="0" lang="en-US" sz="2800" spc="-1" strike="noStrike">
                <a:solidFill>
                  <a:srgbClr val="046ca6"/>
                </a:solidFill>
                <a:latin typeface="华文新魏"/>
              </a:rPr>
              <a:t>=</a:t>
            </a:r>
            <a:r>
              <a:rPr b="0" lang="zh-CN" sz="2800" spc="-1" strike="noStrike">
                <a:solidFill>
                  <a:srgbClr val="046ca6"/>
                </a:solidFill>
                <a:latin typeface="华文新魏"/>
              </a:rPr>
              <a:t>（脉率</a:t>
            </a:r>
            <a:r>
              <a:rPr b="0" lang="en-US" sz="2800" spc="-1" strike="noStrike">
                <a:solidFill>
                  <a:srgbClr val="046ca6"/>
                </a:solidFill>
                <a:latin typeface="华文新魏"/>
              </a:rPr>
              <a:t>+</a:t>
            </a:r>
            <a:r>
              <a:rPr b="0" lang="zh-CN" sz="2800" spc="-1" strike="noStrike">
                <a:solidFill>
                  <a:srgbClr val="046ca6"/>
                </a:solidFill>
                <a:latin typeface="华文新魏"/>
              </a:rPr>
              <a:t>脉压）</a:t>
            </a:r>
            <a:r>
              <a:rPr b="0" lang="en-US" sz="2800" spc="-1" strike="noStrike">
                <a:solidFill>
                  <a:srgbClr val="046ca6"/>
                </a:solidFill>
                <a:latin typeface="华文新魏"/>
              </a:rPr>
              <a:t>-111</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0</a:t>
            </a:r>
            <a:r>
              <a:rPr b="0" lang="zh-CN" sz="2800" spc="-1" strike="noStrike">
                <a:solidFill>
                  <a:srgbClr val="046ca6"/>
                </a:solidFill>
                <a:latin typeface="华文新魏"/>
              </a:rPr>
              <a:t>％为正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为轻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60</a:t>
            </a:r>
            <a:r>
              <a:rPr b="0" lang="zh-CN" sz="2800" spc="-1" strike="noStrike">
                <a:solidFill>
                  <a:srgbClr val="046ca6"/>
                </a:solidFill>
                <a:latin typeface="华文新魏"/>
              </a:rPr>
              <a:t>％为中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0</a:t>
            </a:r>
            <a:r>
              <a:rPr b="0" lang="zh-CN" sz="2800" spc="-1" strike="noStrike">
                <a:solidFill>
                  <a:srgbClr val="046ca6"/>
                </a:solidFill>
                <a:latin typeface="华文新魏"/>
              </a:rPr>
              <a:t>％以上为重度甲亢</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摄</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率测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中</a:t>
            </a:r>
            <a:r>
              <a:rPr b="0" lang="en-US" sz="2800" spc="-1" strike="noStrike">
                <a:solidFill>
                  <a:srgbClr val="046ca6"/>
                </a:solidFill>
                <a:latin typeface="华文新魏"/>
              </a:rPr>
              <a:t>T</a:t>
            </a:r>
            <a:r>
              <a:rPr b="0" lang="en-US" sz="2800" spc="-1" strike="noStrike" baseline="-25000">
                <a:solidFill>
                  <a:srgbClr val="046ca6"/>
                </a:solidFill>
                <a:latin typeface="华文新魏"/>
              </a:rPr>
              <a:t>3 </a:t>
            </a:r>
            <a:r>
              <a:rPr b="0" lang="zh-CN" sz="2800" spc="-1" strike="noStrike">
                <a:solidFill>
                  <a:srgbClr val="046ca6"/>
                </a:solidFill>
                <a:latin typeface="华文新魏"/>
              </a:rPr>
              <a:t>和</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甲状腺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治疗</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45:49Z</dcterms:modified>
  <cp:revision>90</cp:revision>
  <dc:subject/>
  <dc:title>内科护理学</dc:title>
</cp:coreProperties>
</file>